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96518"/>
        <c:axId val="32626007"/>
      </c:barChart>
      <c:catAx>
        <c:axId val="45596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26007"/>
        <c:crosses val="autoZero"/>
        <c:auto val="1"/>
        <c:lblAlgn val="ctr"/>
        <c:lblOffset val="100"/>
        <c:noMultiLvlLbl val="0"/>
      </c:catAx>
      <c:valAx>
        <c:axId val="32626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96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58B-E230-4A79-8B0F-601B1C12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BAF-F3E7-44E7-9B48-24D3ECA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279-A4B1-48DB-9787-758A0F24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84F-553D-411C-9CB5-62938D26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0AE-1506-4ABF-A388-D0562939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1AD-90DB-48FC-AEB6-1D8100D8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AA1-DC09-4128-A8D5-0F747C21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865-5277-439F-A0E0-3928817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C85-0CED-4102-9C03-CA2450D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B5E-0920-4396-924E-A411A6E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E32-67A1-4AA9-ABDC-DD9E401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5D6-7743-48DA-B97A-B6C5F7E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54446-8E0D-4AD4-8B37-64DF7A744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